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A1B-B478-4C76-A5C5-9A9CD725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905-5F5B-4555-8863-8B2BC3A0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54F36-4450-49E0-976A-733D22F8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CCF1B-18FD-4535-8F26-4F72635D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B8132-6CA8-4370-9A90-70B4CC7A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42A72-E334-4901-B883-4C9D70B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AD41A-722F-4A00-9A7A-DD2F1F7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39907-6A4A-4932-9298-C9D64CB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D8777-C4A9-4315-B391-D52BB7DE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F145E-ADFF-4040-B998-F2EF7405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E1109-7AEB-449E-ABD4-2772A185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FAE4F-6F94-4B31-AB50-574FA2B2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BBB-CFF4-4A39-A5EC-7E3DFE83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17A18-D4C6-420B-B914-321DED26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80088-B8B8-46B0-ACAE-ED4EE143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431FA-D6AE-4436-BF40-F9EA38DF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AA5D8-6842-4672-A293-247E954D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06B4A-EBE1-4D93-A90A-95CE4D0E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9B284-5CD3-4310-9D53-DF98FE2D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23176-2EE0-48AB-BFCE-C3A52FD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9D732-3191-4B9B-B52C-0F1CE85F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CC77C-CA90-48A2-BAAF-26E79391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BFF8F-EA62-492D-BF3D-7A35FF83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B51-F55E-4A93-8315-7DC6B4D4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8C197-6263-4517-BD2D-D346B1FD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0AC1D-34FE-419C-9C56-D8C90314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84F51-5066-4132-867F-40B7DE8B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0108E-21F4-466A-9924-0C9769A0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A6DD4-237D-4C56-B67D-544D614B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D8115-AB0E-4249-A78D-552D0C63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48A38-3CEF-4487-BC45-821CBB7C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A7D84-326B-4C83-800B-B1146C43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488D4-2613-4B05-BA31-C0E4A193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E83CB-0CEB-4B7F-B834-B4CE21A6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6DA3-5CBA-44A9-89EA-23C1D693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D0966-9F1F-4D5E-8350-049C4E57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8A11C-E5B8-40B7-B24A-B7328896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65753-55A6-48DA-84C1-EE8601FF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507D4-0468-4E9E-A6B5-7540D814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01E83-99F2-4ECA-AA1E-F30C1A3C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700E4-4349-44E4-835B-7E26B534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63032-79F9-46B1-B4F3-80C38CA6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9593C-E70F-4C79-82E0-84BCDA67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446A5-C00D-448F-925D-AD7F50B5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E26FC-EC0A-4FCF-A060-BAF6429C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9CCF-EC74-4C76-B1D6-02596D28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5013D-9406-445B-BF36-EE5455A1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70102-53CD-4B7C-8AF1-88B7684A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8241D-81FD-4358-9EB8-4187ACC2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E0519-0989-4C62-B090-571891F5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0C640-B422-464E-8B1D-E4637BCD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2864-241A-49CB-8AB6-1B500827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0435-C636-4FCA-A32E-A6E1FCDD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829A-8798-400D-B7B3-D2391AED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BF42-BFA2-4BB2-B771-F1DE1540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E10A-4C1A-49AD-A044-1C49DD05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C4A-2AA8-4681-B81D-EA28E7D2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E5E5-01B9-4F13-9B7A-694401EE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15DB-C726-4E72-A99F-7BCD288E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DED1-93BF-4CA9-9527-1BA7ABF2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DBA8-AE94-4882-B129-65EA2B39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AF43-9E3F-4D83-81EB-1D09676B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C9FAF-263D-4410-8AB0-973F60B2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6385-180A-4C60-80C2-F0958479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C869-9CD7-415B-A85F-47EDEEE7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71D56-9BE7-4DC9-925F-8AF48B0E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9A8D-44A7-4682-9A59-6F78F493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3B9-0965-4C8D-8294-DF949FC6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A883-1144-41A2-9B43-6EBD8699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1DB7-D75D-457A-99E0-62A766C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DDE9-7AA9-40EF-86C8-A316F968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87313-378C-43EA-82C6-9159FB35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99BE-B052-4577-90B6-485FD51B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C369-1735-4F35-8B28-54B1264E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441A-D887-4958-91BA-E361A0B7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BEE7-311D-438B-BBD9-396F6749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D113-53BA-48E3-8396-89A5D418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83B7-E4B4-4668-84E1-44D22381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B0A-4180-4339-A6C3-8F65B674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BB9C-3A12-43C1-A7E6-C34EFB9E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F16E8-E9B6-4316-9693-818B1B8A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68846-BA59-4495-B7BD-94D77C02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C21F6-4801-4B36-B371-32D1A597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AA1D6-03C8-455E-AABF-336523BD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CC5D-E573-4C78-BDE7-A599901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139CE-3ACF-4E4E-AC63-CD296D95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E46E-D7EF-44AA-828C-B944BEE2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651B-9B11-4AC8-9C20-28787A62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41486-5AA0-4F10-AB83-8EF60342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A9E-FF16-4673-95F7-0B598D48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CCB53-8668-4326-AB82-E2BA5EA3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756FF-1501-4549-B269-FFDB13D3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301EB-300C-4506-8F2F-0974F5EA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67010-6B70-47C8-B937-21C29E1D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A39E-51FD-4999-9BA0-04F0549A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F8B7-B68E-4F1A-8B5F-893BF37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79DAF-03F7-4137-B074-5897B2B1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E9323-D5BC-48D3-84A5-238C1896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18A20-7C1A-49FA-969C-F37BA164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3521-3D00-42CA-A661-DDA6C340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3A4-5524-412A-91BF-679E4A1B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118D1-FAC4-492F-9A54-6464C436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E47F7-214F-4B4F-B081-6C85BCC3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E82B9-CFEE-46DD-98EA-CD11AE88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EC119-2E76-49A7-A5A9-7339EDAA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147A3-B93C-4C1F-A713-71BCEFE7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EABB9-38AD-4C6F-9373-D3479EA8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D8280-C555-4F9B-B1EB-586DFA4A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DA327-5F07-48B7-B6A7-5CCE6576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F96D-9F2F-433B-BC0F-6E2B5A9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5E6B-444F-4D5C-812B-9BE32802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D85-9533-4AA9-8D5B-15C4AC7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51D89-7016-4DBE-9305-862F7F72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55FDB-5467-4E0B-9973-40B43926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C3A6C-8657-47EC-9B99-94D63F7F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325A5-32D5-45B8-8C25-E0B5E58F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851FA-BC0D-4429-8DDE-73C0D8B4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B93F4-6449-4813-9E59-C213EF5D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A32E1-B615-47AF-9FE7-98AE883C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2A240-BBD0-4588-8421-5AD9A445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55945-02B7-4DB5-B6AD-FBFFDE81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4E078-AF9E-4301-97CB-188BD936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8E5-3056-4EB0-8388-EE66DFF4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5DF1A-CFA3-44AA-BB89-826229DB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9A4DA-F783-46F3-B0CF-04D8770D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ABA8D-36E3-4DB6-B490-E0D64BB7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BDDAD-A669-4AF4-8DA7-90AF08A6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E55C8-6C83-454C-8C57-8BBFDC74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AB6A1-5F0D-4923-BA69-B1FAAFCD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113C5-8651-48C2-846D-6018927F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770AF-6F71-482A-90D4-B8A79307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FB667-3CB8-48A4-8196-B78AEAC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A5E0E-9867-424C-9B7E-CBECFDF8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04D-BFA2-48BA-B6A0-32578BC9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283A-3AA0-4C22-AF92-F3FD1331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4B124-2293-4095-8097-7E7E9023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55C2F-5A6C-4400-8D1E-09FA2262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F799E-3CB2-475C-90A4-B1468F37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005C2-1F63-496E-B9DB-FAAEBEB5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19F85-07E6-48EB-AFBF-34B25696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50E92-B363-457C-8609-BB053B76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8CE98-96C1-4FF2-8CB6-FC0DE7F5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2AAB5-E577-410E-A5F6-BE9F2633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88C89-C234-47D5-AD70-4B1079AB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E586F-EBEA-4D6E-A897-4536B1A360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78EB0-D059-4760-9F7F-EA13FCA9E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8AF21C0-EE71-4591-8CEE-45EB57B92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EEE10-9927-46DD-86C1-6E7D656E10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B8697-4EFF-4BE1-BB36-F638A917F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4C65D-5738-454D-8D63-38986E5D31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08239-C096-42EC-AF23-530CB7F9A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2E639-90CB-43CD-9F61-0FA25047C2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11D3C-9A5F-4D5F-BBAC-8BDA2EE58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2DA6A-5FDB-4EF3-983F-23B7B5E3D6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3800D-90BA-4D74-84E1-BC0777220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485E6-70B3-462D-AD58-7E98F45249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94CF5-84DF-4E46-AF0C-392E691E7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FC5CD-E236-47EC-8418-6BA7B75EA6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67620-2F48-481A-9540-6396969C4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7C27B-B554-4FE5-A38B-E51D1101FE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DBFC8-6627-40A1-8609-5B2669C3C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868FE-89D1-4A4B-93AE-70F8DBC846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A050E-5204-4BB2-84A3-6E2E01711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15D50-EA28-41C4-B216-486CD8DB0D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A75E9-1DAC-491A-A6D8-496694309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F5BAD-E28D-47D1-A285-9B83FC575A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A206C-349E-4379-AC3B-EFEB6064E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2E5AF-D87E-4123-B010-8C2878FC18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E3F2C-7206-4D71-84FB-6BD9B6D06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rno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2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D021B-16F9-4659-9AAA-B86143440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1B505-F09A-4C25-AA86-11FFC5DD0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A9755-49B8-4033-B218-CC092B2AE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323B8-1F3D-42E5-A3B2-3F9F5870D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FAB95-4C94-45D4-B792-7267284DD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C40BA-B72B-411E-8F4F-73F076FFE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10449-7D94-45F6-81A0-C4C1E74AD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CF4EB-C54D-498D-B06B-74AD5E512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59512-D812-4882-A208-12958EAC2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CB18D-9C8C-4D32-8986-350652AAC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E4AED-49B3-4212-BE67-34146B307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36FA2-6920-4901-9C2B-3B83B2C92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80AAD-3166-45CF-B548-049B799C1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4BC61-8247-4BE6-890A-625A33A25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6B206-253C-4299-9D29-BF7A21061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943D6-AC1B-437D-969C-667CC0240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232E6-9B2E-46CC-B050-E6EDC68C6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944E5-885F-46C2-B001-3322CDEB4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28A1B-4E67-4849-AC94-A6A0E976D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2C0F4-B09A-4E7F-BCF8-8C3658226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7D8CB-59E7-4256-95EF-933866D7F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DDB7D-32B8-4B30-B197-A54C7A862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395F3-4EA2-4F7A-B3FA-6D449323B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0F825-2E96-481B-AA39-380F7A147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FD0A1-9591-4FA8-97B5-97C956CCB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FCCF4-82A2-48C9-879D-56BAA215C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5363D-E959-44B7-91F5-F30BADF9E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4D277-8B81-41EB-B502-2C7F0B8FE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638DF-C356-4F94-8AB2-3A95363C8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9A7AB-CF88-43C0-A5CD-39359EB63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072DF-B1F7-4092-ACFD-DE97FA45E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F5F88-9B9A-42E9-8C69-C5C8EFF19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BC2CF-4773-43CA-ADA4-0DD3DD265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30T08:36:51Z</dcterms:modified>
  <cp:revision>74</cp:revision>
  <dc:subject/>
  <dc:title>Titulní strana – Titulek</dc:title>
</cp:coreProperties>
</file>